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4F04-4D43-49EE-AB2A-6C260B2E7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19E4-64F8-403F-B512-BB9B45D33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B9BC-99EA-463C-80B2-0F970F109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B20A-5FAD-41B1-AD49-DA4283723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46B6D-600F-413A-B8B5-874E72864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855EE-ECD7-47D9-999A-DDCE71648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DFEDD-FC1B-4CBD-90C2-2B7577097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9F357-230F-4066-AEB5-619D6FD6F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F7136-3A6C-4405-A04E-C8786A357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F9B47-62CF-4670-9B7E-04B325DF0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759C7-B244-45D2-B628-D630B65D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6FC2-62E0-4FC2-8117-6ABD627D6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0F8E9-6D9C-4A83-98A2-A6E04EE3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738DB-90F1-46B1-8440-810239E6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CB1A6-5666-4CF7-87D1-07CDDDE73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63FBA-C36F-4DA9-B21C-B305E235D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A200E-06FB-49CF-A2E6-F18BD6B63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D7F0-7DFC-4AF2-82F1-FDD06DA90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4FE8-E9C4-423D-9FF5-F47E9E525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C218-20DD-445D-8454-489FFD312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E9DC-36C7-438A-9AEF-46C15DAEF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FBB1-3E42-473A-9814-D521F721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CADD-E4C3-40DE-A07F-3F2C8969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4C93-61DD-4C99-8361-FE0509BD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FF539-0F18-4A9D-A437-BA55A2FA4B4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FC0A6-7865-4FA6-BAFF-2C960985881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datbázis kezelé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ss alapo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Űrlapok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hát a képernyős adatkezelésért felelősek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258920" y="2133720"/>
            <a:ext cx="6573960" cy="42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Jelentések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z adatok, és a lekérdezések révén nyert információk kinyomtatása a jelentések segítségével történhet me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ehetőség van az adatok csoportosítására, rész és végösszegek esztétikus megjelenítésé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gyebek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atelérési lap (lapok fül) tulajdonképpen egy Web-lap, segítségével az adatokat interneten tehetjük közzé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makrók lehetővé teszik bizonyos alapműveletek automatizálásá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modulok alkalmazása végeredményben az Access programozását jelenti, egy speciális adatbázis-kezelő nyelv, az Access Basic segítségé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gyebek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Verdana"/>
              </a:rPr>
              <a:t>Az eddigi objektum típusokból épül fel az Access adatbázis, melyet az Access egyetlen állományban tárol, melynek a kiterjesztése MDB (Microsoft DataBase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Verdana"/>
              </a:rPr>
              <a:t>Az egyes objektumok kialakítását , megtervezését számos „varázsló” könnyíti meg, de ezek használata néha terh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Verdana"/>
              </a:rPr>
              <a:t>Néhány közülük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Verdana"/>
              </a:rPr>
              <a:t>Tábla varázsló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Verdana"/>
              </a:rPr>
              <a:t>Beviteli mask varázsló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Verdana"/>
              </a:rPr>
              <a:t>Kifejezés szerkesztő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Verdana"/>
              </a:rPr>
              <a:t>Lekérdezés szerkesztő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Verdana"/>
              </a:rPr>
              <a:t>Autójelentés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Verdana"/>
              </a:rPr>
              <a:t>A munka bármely pontján lehetőség van a Súgó igénybevételére, ami helyzet érzékeny is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datbázis tervezése, létrehozás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ervezés papír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ervezés és létrehozás Access segítségé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datkezelés alapfok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ervezés papír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 feladat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rvezzünk meg egy könyvtári nyilvántartó rendsz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lső probléma : milyen könyvtár kezelésére akarjuk használni 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ervezés első lépése a feladat pontosítás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skolai könyvtár számára készül a rendsz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ilyen részfeladatokat kell ellátni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ik lesznek a rendszer használói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ilyen információkra lesz szükségük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z olvasó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ájékozódásra, keresésre szeretné használni a rendszert a könyve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zerzőj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ím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émája szeri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zeretné tudni, hogy a kiválasztott könyv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ány oldal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Kölcsönözhető-e, stb.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ilyen részfeladatokat kell ellátni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A könyvtár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Verdana"/>
              </a:rPr>
              <a:t>A leltár elkészítéséhez tudnia kel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291680" indent="-39132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Verdana"/>
              </a:rPr>
              <a:t>Az egyes könyvek árát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291680" indent="-39132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Verdana"/>
              </a:rPr>
              <a:t>Mely könyvek vannak kikölcsönözv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Verdana"/>
              </a:rPr>
              <a:t>Kinél vannak könyvek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Verdana"/>
              </a:rPr>
              <a:t>Melyeket kellett volna már visszahozn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Verdana"/>
              </a:rPr>
              <a:t>Kik a könyvtári tagok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Verdana"/>
              </a:rPr>
              <a:t>Milyen lakcímen érhetőek el, stb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Verdana"/>
              </a:rPr>
              <a:t>Gondoskodnia kell az állomány karbantartásáról i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eghatározni az ellátáshoz szükséges adatok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éhány gyakorlati szempont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a egy tulajdonságot nem veszünk nyilvántartásba, válogatni, kérdezni sem tudunk e szeri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z adatok összevonása egy mezőbe meggondolandó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ölösleges ismérv esetleg sok száz, ezer fölöslegesen begépelendő adatot jel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erüljük az adatok többszörös nyilvántartásá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áblázatok készítés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táblázatokat úgy kell elkészíteni, hogy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inden mező közvetlen kapcsolatban álljon a táblázat témájáv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 tartalmazzon felesleges, származtatott, ismétlődő adato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z egyes mezők elemi adatokat tartalmazzana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lehető legkevesebb táblát használjuk, azok viszont minden szükséges adatot tartalmazzana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unkakörnyeze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 program indítás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datbázis létrehozása, illetve létező megnyitás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 NORTHWIND minta adatbázi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 táblá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ell egy tábla a könyvekrő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ell egy az olvasókró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 kölcsönzés regisztrálásához is szükség van egy táblár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z adatbázist ábrázolhatjuk adatmodell-diagram segítségével, vagy használhatjuk a formális szerkezeti leírást i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 táblá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Verdana"/>
              </a:rPr>
              <a:t>KÖNV (szerző, cím, </a:t>
            </a:r>
            <a:r>
              <a:rPr b="0" lang="hu-HU" sz="2100" spc="-1" strike="noStrike" u="sng">
                <a:solidFill>
                  <a:srgbClr val="000000"/>
                </a:solidFill>
                <a:uFillTx/>
                <a:latin typeface="Verdana"/>
              </a:rPr>
              <a:t>leltáriszám</a:t>
            </a:r>
            <a:r>
              <a:rPr b="0" lang="hu-HU" sz="2100" spc="-1" strike="noStrike">
                <a:solidFill>
                  <a:srgbClr val="000000"/>
                </a:solidFill>
                <a:latin typeface="Verdana"/>
              </a:rPr>
              <a:t>, beszerzésiár, kölcsönözhetőe, kiadó, kiadásiév, beszerzésdátuma, </a:t>
            </a:r>
            <a:r>
              <a:rPr b="0" i="1" lang="hu-HU" sz="2100" spc="-1" strike="noStrike">
                <a:solidFill>
                  <a:srgbClr val="000000"/>
                </a:solidFill>
                <a:latin typeface="Verdana"/>
              </a:rPr>
              <a:t>műfaj, témakör</a:t>
            </a:r>
            <a:r>
              <a:rPr b="0" lang="hu-HU" sz="2100" spc="-1" strike="noStrike">
                <a:solidFill>
                  <a:srgbClr val="000000"/>
                </a:solidFill>
                <a:latin typeface="Verdana"/>
              </a:rPr>
              <a:t>, terjedelem, ismertető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Verdana"/>
              </a:rPr>
              <a:t>OLVASÓ (</a:t>
            </a:r>
            <a:r>
              <a:rPr b="0" lang="hu-HU" sz="2100" spc="-1" strike="noStrike" u="sng">
                <a:solidFill>
                  <a:srgbClr val="000000"/>
                </a:solidFill>
                <a:uFillTx/>
                <a:latin typeface="Verdana"/>
              </a:rPr>
              <a:t>olvasókód</a:t>
            </a:r>
            <a:r>
              <a:rPr b="0" lang="hu-HU" sz="2100" spc="-1" strike="noStrike">
                <a:solidFill>
                  <a:srgbClr val="000000"/>
                </a:solidFill>
                <a:latin typeface="Verdana"/>
              </a:rPr>
              <a:t>, vezetéknév, keresztnév, város, utcaházszám, irányítószám, foglalkozás, évfolyam, osztály, fénykép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Verdana"/>
              </a:rPr>
              <a:t>KÖLCSÖNZÉS(</a:t>
            </a:r>
            <a:r>
              <a:rPr b="0" lang="hu-HU" sz="2100" spc="-1" strike="noStrike" u="sng">
                <a:solidFill>
                  <a:srgbClr val="000000"/>
                </a:solidFill>
                <a:uFillTx/>
                <a:latin typeface="Verdana"/>
              </a:rPr>
              <a:t>kölcsönzéskód</a:t>
            </a:r>
            <a:r>
              <a:rPr b="0" lang="hu-HU" sz="21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hu-HU" sz="2100" spc="-1" strike="noStrike">
                <a:solidFill>
                  <a:srgbClr val="000000"/>
                </a:solidFill>
                <a:latin typeface="Verdana"/>
              </a:rPr>
              <a:t>olvasókód, leltáriszám</a:t>
            </a:r>
            <a:r>
              <a:rPr b="0" lang="hu-HU" sz="2100" spc="-1" strike="noStrike">
                <a:solidFill>
                  <a:srgbClr val="000000"/>
                </a:solidFill>
                <a:latin typeface="Verdana"/>
              </a:rPr>
              <a:t>, kölcsönzésdátuma, lejáratdátuma, visszadátum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Verdana"/>
              </a:rPr>
              <a:t>MŰFAJOK(</a:t>
            </a:r>
            <a:r>
              <a:rPr b="0" lang="hu-HU" sz="2100" spc="-1" strike="noStrike" u="sng">
                <a:solidFill>
                  <a:srgbClr val="000000"/>
                </a:solidFill>
                <a:uFillTx/>
                <a:latin typeface="Verdana"/>
              </a:rPr>
              <a:t>műfaj</a:t>
            </a:r>
            <a:r>
              <a:rPr b="0" lang="hu-HU" sz="21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Verdana"/>
              </a:rPr>
              <a:t>TÉMAKÖRÖK(</a:t>
            </a:r>
            <a:r>
              <a:rPr b="0" lang="hu-HU" sz="2100" spc="-1" strike="noStrike" u="sng">
                <a:solidFill>
                  <a:srgbClr val="000000"/>
                </a:solidFill>
                <a:uFillTx/>
                <a:latin typeface="Verdana"/>
              </a:rPr>
              <a:t>témakör</a:t>
            </a:r>
            <a:r>
              <a:rPr b="0" lang="hu-HU" sz="21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ervezés, létrehozás az Access segítségével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datbázis létrehozás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Verdana"/>
              </a:rPr>
              <a:t>Az access indítása után egy új adatbázis kell létrehozni, File/új adatbázis menüpo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Verdana"/>
              </a:rPr>
              <a:t>A felkínált lehetőségek közül válasszuk az általános/adatbázis lehetősége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Verdana"/>
              </a:rPr>
              <a:t>Adjuk meg az adatbázis nevét, ez lesz a fájl neve is egyb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Verdana"/>
              </a:rPr>
              <a:t>Létrehozás után megjelenik egy üres, csak varázslókat tartalmazó adatbázis-ablak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ivel az adathordozóink a táblák lesznek először azokat kell megterveznün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álasszuk baloldalt a táblák gombo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zámos üzleti és magán célra használható táblázat terve található itt, de nekünk a táblázat létrehozása tervező nézetben a fon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 megjelenő ablakban sok dolgot kell eldönteni, illetve megadni és kitölten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ervezé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önteni kell az adatábrázolás módjáról, tehát az adatok típusáról és méretérő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z adatlap felső részébe kell beírnunk a tervezett mező nevét, adattípusát, s rövid leírásá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 táblázat alsó része a mezőtulajdonságok meghatározására szolgál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ezőtulajdonságok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Verdana"/>
              </a:rPr>
              <a:t>Mezőnév : az access támogatja a „beszélő nevek alkalmazásá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Verdana"/>
              </a:rPr>
              <a:t>Adattípus : legördülő listából tudunk választani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Verdana"/>
              </a:rPr>
              <a:t>Mezőtulajdonság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Verdana"/>
              </a:rPr>
              <a:t>Mezőmére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Verdana"/>
              </a:rPr>
              <a:t>Formátum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Verdana"/>
              </a:rPr>
              <a:t>Tizedes helyek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Verdana"/>
              </a:rPr>
              <a:t>Bemeneti maszk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Verdana"/>
              </a:rPr>
              <a:t>Cím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Verdana"/>
              </a:rPr>
              <a:t>Alapértelmezett érték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Verdana"/>
              </a:rPr>
              <a:t>Érvényességi szabály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Verdana"/>
              </a:rPr>
              <a:t>Érvényesítési szöveg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Verdana"/>
              </a:rPr>
              <a:t>Kötelező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Verdana"/>
              </a:rPr>
              <a:t>Nulla hossz, engedélyezés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Verdana"/>
              </a:rPr>
              <a:t>Indexelt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Kapcsolatok megadás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szközök/kapcsolatok menüpo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djuk hozzá a táblákat az üres kapcsolatok ablakhoz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Összekötés egyszerűen az egérrel történi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kkor egy újabb ablak jelenik meg, melyen az összekötés tulajdonságait tudjuk megadn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Kapcsolatok megadás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ivatkozási integritá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kapcsolt táblába csak akkor lehet új rekordot felvenni, ha annak kulcsa megtalálható az elsődleges táblába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z elsődleges táblából nem törölhetünk adatot, ha a kapcsolt táblában neki megfelelő rekord létezi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kkor válaszható a tulajdonság, h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z elsődleges tábla illeszkedő mezője elsődleges kul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kapcsolt mezők adattípusa megegyezi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Kapcsolatok megadás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Verdana"/>
              </a:rPr>
              <a:t>Kaszkádolt frissíté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Verdana"/>
              </a:rPr>
              <a:t>Az elsődleges táblában valamely rekord elsődleges kulcsát módosítjuk, akkor az access automatikusan hozzáigazítja az összes további táblában lévő kapcsolt rekord illeszkedő értékei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Verdana"/>
              </a:rPr>
              <a:t>Kaszkádolt törlé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Verdana"/>
              </a:rPr>
              <a:t>Ekkor az access az elsődleges tábla bármely rekordjának törlésekor automatikusan törli a csatolt táblában található kapcsolt rekordokat i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datbázis-abla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 minta adatbázis fájl megnyitása után egy úgynevezett adatbázis-ablak jelenik meg, ami mint egy vezérlőpultként funkcióná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547640" y="2637000"/>
            <a:ext cx="5962680" cy="35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datkezelés alapfok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eendők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Új adatokat felvenn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datokat javítani, szerkeszten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zükségtelen rekordokat töröln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datokat rendezn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z állományban keresn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kordokat szűrn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yomtatni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Bevitel, törlés, módosítá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Ehhez a tábláinkat az eddigi tervező nézet helyett, adatlap nézetben kell használnun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Dem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datbázis abla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legfontosabb fogalmak a baloldali „füleken” olvasható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fülekre kattintva tudunk az egyes objektum-típusok közt váltan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zek a következők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áblá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kérdezése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Űrlapo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elentése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po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ró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dulo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áblá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z adatok nyilvántartása a táblák segítségével történik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relációs modellnek megfelelően a tábla adatai oszlopokra (mezőkre) és sorokra (rekordokra) vannak bontv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mező az adatok egy tulajdonságát írja 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rekord az egy dologról tárolt információk összessé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tábla összes rekordja ugyanazon mezőkből ál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áblák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k elszigetelt tábla még nem adatbázis, a táblák között kapcsolatokat hozhatunk létre, illetve meg is tekinthetjük azok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547640" y="2924280"/>
            <a:ext cx="59914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ekérdezések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lekérdezések a táblákban tárolt nyers adatok feldolgozását, elemzését, esetleg módosítását segítik elő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lekérdezés legtöbbször egy egyszerűen megfogalmazható kérdés, melyet adatainkkal kapcsolatban teszünk f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kapott válasz egy minden alkalommal aktualizálódó rekordhalmaz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ekérdezések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116000" y="1916280"/>
            <a:ext cx="6800760" cy="40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Űrlapok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z adatok megjelenítése sokszor nem elég szemléletes táblázatos formáb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z űrlapok segítségével szemléletesebben jeleníthetjük me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asonlóan megkönnyíti az adatok bevitelét i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3T10:08:17Z</dcterms:created>
  <dc:creator>Nagymáté Péter</dc:creator>
  <dc:description/>
  <dc:language>en-US</dc:language>
  <cp:lastModifiedBy>Nagymáté Péter</cp:lastModifiedBy>
  <dcterms:modified xsi:type="dcterms:W3CDTF">2004-01-13T12:26:46Z</dcterms:modified>
  <cp:revision>15</cp:revision>
  <dc:subject/>
  <dc:title>Adatbázis kezelés</dc:title>
</cp:coreProperties>
</file>